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AAB-1DFC-4E7C-AC19-E24D3B3F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DD2-538A-4BA8-82FC-409FF4F9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2D9-2EAA-4003-AEBE-61B1B197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EE4-BE3A-42BF-82D1-05E3F993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E050-5D15-4B91-A2C8-145A5096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91ED-8A2A-423B-8F6C-0D45330A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EEA3-95E6-428F-88DC-953ED456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E98C-99BF-4DD6-896E-F23A3ED5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8F1D-B53A-4DD5-A6D0-3BC8F4DA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B97C-801A-49A3-97E0-F44122C4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485B-2DFF-454B-B2C1-774B7CAB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C04-25AA-4EBE-8646-B5F74B15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00DD-04B6-40F4-B014-375F8B17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055A-69A7-4120-BAE4-81724DD2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B6EF-F970-4101-ACF7-AE430312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770E-96D3-4F64-BE5C-10A26514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022A-14DA-469F-B132-97190020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E99C-C642-491C-97E3-23CE7914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EBB-B8CE-49DE-A449-9C0E26CA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ECC-D967-4BE5-81CF-3B47B1F1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9DB-7875-461F-9BF9-FA67F8C9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CFE-4C24-4E6B-973D-A2EB5B2E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EB5-014C-47D1-9299-F7425B35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980-1139-4E5C-8E19-460C05B9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00CD-EEF7-4EA3-BCC1-D4F8F9A3F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4EBA-1B07-451C-B0BE-01D64EFE0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ditarod.com/" TargetMode="External"/><Relationship Id="rId2" Type="http://schemas.openxmlformats.org/officeDocument/2006/relationships/hyperlink" Target="http://teacher.scholastic.com/activities/Iditarod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itarod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itarod Resear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Iditaro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is the Iditarod ru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re does the Iditarod take plac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is the race run? (History behind the race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o participates in the Iditaro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is the race set up?  What are the rule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Diphtheria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hynow.dumka.us/grfx/Iditarod_map.jpg"/>
          <p:cNvPicPr/>
          <p:nvPr/>
        </p:nvPicPr>
        <p:blipFill>
          <a:blip r:embed="rId1"/>
          <a:stretch/>
        </p:blipFill>
        <p:spPr>
          <a:xfrm>
            <a:off x="838080" y="322200"/>
            <a:ext cx="5334120" cy="77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finders to use for research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049bd"/>
                </a:solidFill>
                <a:uFillTx/>
                <a:latin typeface="Arial"/>
                <a:hlinkClick r:id="rId1"/>
              </a:rPr>
              <a:t>http://www.iditarod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049bd"/>
                </a:solidFill>
                <a:uFillTx/>
                <a:latin typeface="Arial"/>
                <a:hlinkClick r:id="rId2"/>
              </a:rPr>
              <a:t>http://teacher.scholastic.com/activities/Iditaro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adn.com/iditaro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2.grand-forks.k12.nd.us/ms/iditarod/iditarod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is is an older site created by a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iditarodblogs.com/teachers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eacher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dsc.discovery.com/tv/iditarod/iditarod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cludes vide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2:54:28Z</dcterms:created>
  <dc:creator>jukese</dc:creator>
  <dc:description/>
  <dc:language>en-US</dc:language>
  <cp:lastModifiedBy>jukese</cp:lastModifiedBy>
  <dcterms:modified xsi:type="dcterms:W3CDTF">2009-03-31T16:04:39Z</dcterms:modified>
  <cp:revision>2</cp:revision>
  <dc:subject/>
  <dc:title>Iditarod 2009</dc:title>
</cp:coreProperties>
</file>